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j0074852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87B8-24C7-4523-AA89-97A3BFBE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me takes no time to prepare! Just gather questions you want to review with the kids, a worksheet they worked on or questions in your head and go. Divide your class into 4 groups and designate each team a car. Whoever gets the questions right, click on their car and it’ll drive 1/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way around the track. First team to make a lap A) wins. B) gets the point. C) gets a prize. You then need to restart a new lap by clicking on new lap. This will reset all the cars. There are 15 laps in the game, but you don’t have to play them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D1F-FE5D-479C-B592-03192F2A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5AE-8D24-477D-8596-C1906A41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76F-EF6D-45A8-B897-FAD5EB08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FC3-35D4-4A24-8037-214B8ED8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8AA-0AC6-433F-A524-94B74500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9E3-57D5-4BE7-B5F4-68B5B35F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C41-E796-49B6-A203-FFBBC610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649-51A6-44A4-9BA7-F8E27838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B07-05B8-429C-8DF4-81AA62F2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AF4-B9CD-4813-A32A-07734A8D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6A8-86DB-44BE-8B8C-5A26A5C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E35-55A1-4088-A305-BC3F713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9B82-E198-4FC0-A45B-C04F1CD3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1143000" y="685800"/>
            <a:ext cx="33526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Ravie"/>
              </a:rPr>
              <a:t>R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Ravie"/>
              <a:ea typeface="Ravi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2520" y="403848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Ravie"/>
              </a:rPr>
              <a:t>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Ravie"/>
              <a:ea typeface="Ravi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8120" y="29718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Ravie"/>
              </a:rPr>
              <a:t>-N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Ravie"/>
              <a:ea typeface="Ravi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0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4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5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5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5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957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96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971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975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97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985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99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999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006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013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020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02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03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0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048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05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06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07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077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0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081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08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091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09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105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10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11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11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12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13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14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14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15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16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168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7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17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183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19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197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204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2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211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218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22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23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23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24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253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26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267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274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28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288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2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2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300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30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31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31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31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324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7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32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33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33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34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35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35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36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37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373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37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38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387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394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401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406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409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41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423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430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437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444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4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45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458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465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6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47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479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48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48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49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500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50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50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514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522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529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536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54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543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550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55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55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561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56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568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571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57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578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8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58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59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599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606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613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6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620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62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627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0" dur="indefinite" restart="never" nodeType="tmRoot">
          <p:childTnLst>
            <p:seq>
              <p:cTn id="163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635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6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646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649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65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656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66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66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670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67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684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688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691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9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698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1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70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70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0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0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712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1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71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23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726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9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730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733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74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0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4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5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5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7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9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2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21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2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22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23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24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25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25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26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27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28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29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30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30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31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32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33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34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34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35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36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37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37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38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39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39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40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41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42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42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43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4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44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45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46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46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4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48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49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49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50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51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51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52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53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5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54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55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56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56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57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58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58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59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60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6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61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62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63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63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65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66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66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67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68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68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69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7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70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71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72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731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73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74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75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75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76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77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78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78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7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80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80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81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8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8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83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84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85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85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86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872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87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88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89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90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90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91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92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92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93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94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94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20:18:06Z</dcterms:created>
  <dc:creator>Clear Creek ISD</dc:creator>
  <dc:description/>
  <dc:language>en-US</dc:language>
  <cp:lastModifiedBy>Clear Creek ISD</cp:lastModifiedBy>
  <dcterms:modified xsi:type="dcterms:W3CDTF">2006-02-06T15:40:42Z</dcterms:modified>
  <cp:revision>12</cp:revision>
  <dc:subject/>
  <dc:title>Slide 1</dc:title>
</cp:coreProperties>
</file>